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62EEA-DD68-4974-AAB5-1FE0D916D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FA1C5-4AC9-46C5-80CE-DBA31C66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53912-9003-474A-B084-81DA17ED0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D407D-3194-40B7-A667-1DB20595C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5FF0-1868-4A9C-A990-06B99A64E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B1FF-C9E1-4700-BA9D-767C8C42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B4E2-81DA-4AAF-95BC-17C83CED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3A4B-A1BC-49E4-B9D5-8BC8B1EA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97E1-00F7-4778-A0FF-9BB11638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6EC0-5A74-486B-9771-322A7B83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A722-1FDD-44CD-9B97-DF10090B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5D747-6112-4BF9-9513-CF1272B6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5F12-D25D-4ED6-B7CA-1329417F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170C-957A-4B79-B066-895A3DE8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EE96-1FB8-4467-94D1-FA1CC37F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98B0-4F95-4187-A20F-37FB89C3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77EB-7405-4CAD-AB50-646BF8592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30FF6-DA43-462F-8A44-413692C0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DB389-B8E8-4B68-AB6A-EB3ACC10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B0291-B53A-46EC-8DDE-BC1467F7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DD140-DF6C-43F5-9D2C-C5D3AB8C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C4CEA-6CAC-4ED1-ABBD-32E56956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F3623-D1F9-4666-BFAA-16779EA7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B1859-B490-458E-B328-AE2AE163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5541-64B9-4202-B3D0-C3156804E26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BE71-C95E-443B-82AF-66F3A658E40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08000" y="191520"/>
            <a:ext cx="8928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74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03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сус Христос възкръсна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Жив е сионский Цар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на небе възлезн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д всички Господар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ада Победител -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ва ни Той яви -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всемогъщ Спасител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верните Свои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130428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бесни колесниц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чакват тържество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ангели безбройн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м пеят във едно: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"Широко отворет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бесните врат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с радост приемет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з славен Цар - Христа"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118368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й е тоз Цар на слава?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емогъщият Господ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нам свободно дав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пасение и живот.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й-славен Той е ратник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силен е във бран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Княз е, и Началник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ежду небесний ста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118368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нас веднъж отхвърлен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хулен и презрян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грешни бе осъден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разпет и умъртвен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о в третий ден възкръсн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ионский славен Цар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горе Той възлезн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д всички Господар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1-10T10:37:13Z</dcterms:modified>
  <cp:revision>55</cp:revision>
  <dc:subject/>
  <dc:title>Slide 1</dc:title>
</cp:coreProperties>
</file>